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B6B-38CB-4C84-BE2C-F5B14EB6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F3C-93A0-490D-8A14-0698F83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A1A-7FBC-46D8-B01B-952B3EBE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0FA-1B9F-463A-8931-9993676C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F10-A989-487E-9D14-FC0D8A8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BCA-B790-4AFE-947F-9784E1E7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407-5FEF-46DB-953A-38695B1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DF3-A9FA-4AE8-853C-8DB286E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AB8-1FB7-44F7-A57C-CA2F71A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B4C-7948-423C-B453-2ABCBEF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163-7A8C-464F-9CA1-B27FB2B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137-B98B-4E02-9E27-D433E1FA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DE6C-FEFC-4934-BF94-81F1E9F8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19720" y="3200400"/>
            <a:ext cx="176364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fe84"/>
                    </a:gs>
                    <a:gs pos="100000">
                      <a:srgbClr val="fcff10"/>
                    </a:gs>
                  </a:gsLst>
                  <a:lin ang="13500000"/>
                </a:gradFill>
                <a:latin typeface="Lucida Grande CY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fe84"/>
                  </a:gs>
                  <a:gs pos="100000">
                    <a:srgbClr val="fcff10"/>
                  </a:gs>
                </a:gsLst>
                <a:lin ang="13500000"/>
              </a:gradFill>
              <a:latin typeface="Lucida Grande CY"/>
              <a:ea typeface="Lucida Grande CY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3505320"/>
            <a:ext cx="1371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e7598"/>
                    </a:gs>
                    <a:gs pos="50000">
                      <a:srgbClr val="153546"/>
                    </a:gs>
                    <a:gs pos="100000">
                      <a:srgbClr val="2e7598"/>
                    </a:gs>
                  </a:gsLst>
                  <a:lin ang="13500000"/>
                </a:gradFill>
                <a:latin typeface="Lucida Grande"/>
              </a:rPr>
              <a:t>Q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e7598"/>
                  </a:gs>
                  <a:gs pos="50000">
                    <a:srgbClr val="153546"/>
                  </a:gs>
                  <a:gs pos="100000">
                    <a:srgbClr val="2e7598"/>
                  </a:gs>
                </a:gsLst>
                <a:lin ang="13500000"/>
              </a:gradFill>
              <a:latin typeface="Lucida Grande"/>
              <a:ea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02:43:45Z</dcterms:created>
  <dc:creator>Trial User</dc:creator>
  <dc:description/>
  <dc:language>en-US</dc:language>
  <cp:lastModifiedBy>Trial User</cp:lastModifiedBy>
  <cp:lastPrinted>2004-05-22T03:02:43Z</cp:lastPrinted>
  <dcterms:modified xsi:type="dcterms:W3CDTF">2004-05-22T03:31:52Z</dcterms:modified>
  <cp:revision>1</cp:revision>
  <dc:subject/>
  <dc:title>PowerPoint Presentation</dc:title>
</cp:coreProperties>
</file>